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-to-student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a network of conversation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raw a network map – what would those connections look like? Can you imagin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th talk learning 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interaction in the math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ffective questioning mon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– learn to anticipate student thinking (with a 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return to the group – question by listening to the “students’”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rs – receive information about their role (recording the dialogue and thin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bservers return to the group to capture the dialog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ed to know what the whole is to know what the fraction is! (recall ribbon ques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whole that we are dividing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part of the whole does the leftover piece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rning goals are upfront here for our learning … Reminder: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not always the case in 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Placement &amp; clarify of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ticipate student thinking, use student responses to shift instruction and expose student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th talk, express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video gets at what it means to develop a thinking classroom and a community of meaningful ta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questions tend to shut down thinking …the kids are tentative because they don’t know the answ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infeld evalu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ids working interpre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questions are about trying to hear and understand student thinking – not just ch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need to ask the right sorts of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can also develop question prompts that students ask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del what we might expect to hear in the classroom (practice asking Q to one another and listening in an interpretive se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rategy for changing our questioning is to write down ahead of time some standard questions that work in most situations (e.g. tell me more about that … tell me how you know … how does this connect to what we did yesterday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ortance of a math talk learning commun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et model rather than a defici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ers interacting with each other in a true P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to understand student thinking – not just listening for misconce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(Chris’ perspective – “different understanding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do you understand this? How do you se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do we train ourselves to listen be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signing good questions takes time and “knowledge” … we learn as much from the kids as they learn from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next question I ask depends on how the student just responded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 the probl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nticipate student think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potential ques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might the learning goals be - representing, selecting an appropriate model/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2mi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ctivate the brownie problem using a story context (Fosnot) that requires kids make sense of to sol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b baked  brownies, her son got in and ate some, there were only 7 left. Deb’s daughter came in with her friends and they were going to split them up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ow much will each of the girls - Tori, Anna, Rachel, and Emily - ge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5mi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. Solve the problem to anticipate student thinking and identify potential questions to ask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lso consider, what learning goal might you have for this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5mi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3. Look at samples of student work at your table … use prompts from the resources at your table to push student thinking forward, to make sense of thinking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rite your questions on post-its - content/process/strategy – place on the student wor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FCE8-C600-43E7-A57B-02993F1C1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FCF5-991B-485D-B861-B5E56BC16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51A5-9B3E-4659-BEDD-2B7B24133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FA7B-EE29-44D4-A94B-2737FABEE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0A0B-E269-4391-86A5-B286E7234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624C-8714-416A-B0CC-5B17107E0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5F24-DE7C-45A8-8828-E2B6B17A6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D8E1-0D31-4504-8A8D-08D9EA5A0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AA28-B8DD-4AA0-A849-C3AA6FA67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4E8E-5A49-4ABD-A960-97A5994A2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BB2E-E979-49DE-B0C6-2D6DF9AEC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6BCA-B1EE-408D-A7BC-0ACE63DB4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59D3-619A-4776-99B9-6A34C6F60E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operativelearning.nuvvo.com/lesson/9592-seinfeld-teaches-histor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4F1-2B8A-48D2-9E01-A792547ACA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</a:rPr>
              <a:t>Math CAMPPP 2012</a:t>
            </a:r>
            <a:br>
              <a:rPr sz="4800"/>
            </a:br>
            <a:r>
              <a:rPr b="0" lang="en-US" sz="4400" spc="-1" strike="noStrike">
                <a:solidFill>
                  <a:srgbClr val="2490d8"/>
                </a:solidFill>
                <a:latin typeface="Tahoma"/>
              </a:rPr>
              <a:t>Breakout 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1760" y="4038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7000"/>
          </a:bodyPr>
          <a:p>
            <a:pPr marL="34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</a:rPr>
              <a:t>Questioning, Listening and Respon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</a:rPr>
              <a:t>Promote Students’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presentations &amp; Lear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sharing foundational to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division of whole numbers with fraction rema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model (represents a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model (3 pieces, 3 brown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ming of fractions (1¾=7/4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½+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udent responses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insight into thei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lluminate ways the students understand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examples of ways of thinking for othe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EFDA-67C2-4365-9AA7-79C8772F6E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oles …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– 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ibbon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 have 7 yards of ribbon.  It takes 3/4 of a yard to wrap a gift.  How many gifts can you wr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gift box blue"/>
          <p:cNvPicPr/>
          <p:nvPr/>
        </p:nvPicPr>
        <p:blipFill>
          <a:blip r:embed="rId1"/>
          <a:stretch/>
        </p:blipFill>
        <p:spPr>
          <a:xfrm>
            <a:off x="4648320" y="1447920"/>
            <a:ext cx="40449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by Listening Simul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with a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s with a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ork on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ing to 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yback to student what I see in the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et kids to reflect on their work and see where they can go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e studen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a student-to-student network of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4AE8-73CC-4459-A054-C42C9A5AD4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mmary …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questioning can serve to elicit and promote mathematical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can be a verb – the action of quotient (division) with two different but related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PQ template as an effective way to anticipate/identify good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17A8-6E53-445B-AE1B-E53784C91B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 as a Quotient (partitiv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fraction can represent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7 brownies divided among 4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of groups is know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amount per group i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A1FC-A23F-4360-A791-16EA277E47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2286000" y="4191120"/>
            <a:ext cx="5791320" cy="1447560"/>
            <a:chOff x="2286000" y="4191120"/>
            <a:chExt cx="5791320" cy="1447560"/>
          </a:xfrm>
        </p:grpSpPr>
        <p:sp>
          <p:nvSpPr>
            <p:cNvPr id="97" name="Rectangle 5"/>
            <p:cNvSpPr/>
            <p:nvPr/>
          </p:nvSpPr>
          <p:spPr>
            <a:xfrm>
              <a:off x="3733920" y="419112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3047760" y="502920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4648320" y="502920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2286000" y="419112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7086960" y="419112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6248520" y="502920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5410440" y="419112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0"/>
          <p:cNvGrpSpPr/>
          <p:nvPr/>
        </p:nvGrpSpPr>
        <p:grpSpPr>
          <a:xfrm>
            <a:off x="2111400" y="3890880"/>
            <a:ext cx="6324480" cy="2309760"/>
            <a:chOff x="2111400" y="3890880"/>
            <a:chExt cx="6324480" cy="2309760"/>
          </a:xfrm>
        </p:grpSpPr>
        <p:sp>
          <p:nvSpPr>
            <p:cNvPr id="105" name="Freeform 13"/>
            <p:cNvSpPr/>
            <p:nvPr/>
          </p:nvSpPr>
          <p:spPr>
            <a:xfrm>
              <a:off x="6550560" y="3890880"/>
              <a:ext cx="1885320" cy="2093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5170680" y="4089960"/>
              <a:ext cx="1517400" cy="187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3663720" y="3942000"/>
              <a:ext cx="1522800" cy="2258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2111400" y="3907440"/>
              <a:ext cx="1712520" cy="2044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 as a Quotient (measurement - quotativ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divide by a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7 yards of ribbon, ¾ of a yard to wrap a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of groups (gifts) is unkn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amount per group (gift) is unknown (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C90A-9011-4482-BEF9-02BD737C3A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676520" y="4952880"/>
            <a:ext cx="6400800" cy="304920"/>
            <a:chOff x="1676520" y="4952880"/>
            <a:chExt cx="6400800" cy="304920"/>
          </a:xfrm>
        </p:grpSpPr>
        <p:sp>
          <p:nvSpPr>
            <p:cNvPr id="113" name="Rectangle 20"/>
            <p:cNvSpPr/>
            <p:nvPr/>
          </p:nvSpPr>
          <p:spPr>
            <a:xfrm>
              <a:off x="16765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71629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62485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53341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44197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5"/>
            <p:cNvSpPr/>
            <p:nvPr/>
          </p:nvSpPr>
          <p:spPr>
            <a:xfrm>
              <a:off x="35053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6"/>
            <p:cNvSpPr/>
            <p:nvPr/>
          </p:nvSpPr>
          <p:spPr>
            <a:xfrm>
              <a:off x="25909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9"/>
          <p:cNvGrpSpPr/>
          <p:nvPr/>
        </p:nvGrpSpPr>
        <p:grpSpPr>
          <a:xfrm>
            <a:off x="2362320" y="4724280"/>
            <a:ext cx="5486400" cy="762120"/>
            <a:chOff x="2362320" y="4724280"/>
            <a:chExt cx="5486400" cy="762120"/>
          </a:xfrm>
        </p:grpSpPr>
        <p:sp>
          <p:nvSpPr>
            <p:cNvPr id="121" name="Straight Connector 30"/>
            <p:cNvSpPr/>
            <p:nvPr/>
          </p:nvSpPr>
          <p:spPr>
            <a:xfrm>
              <a:off x="2362320" y="487656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40"/>
            <p:cNvSpPr/>
            <p:nvPr/>
          </p:nvSpPr>
          <p:spPr>
            <a:xfrm>
              <a:off x="37339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41"/>
            <p:cNvSpPr/>
            <p:nvPr/>
          </p:nvSpPr>
          <p:spPr>
            <a:xfrm>
              <a:off x="4419720" y="472428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42"/>
            <p:cNvSpPr/>
            <p:nvPr/>
          </p:nvSpPr>
          <p:spPr>
            <a:xfrm>
              <a:off x="51055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43"/>
            <p:cNvSpPr/>
            <p:nvPr/>
          </p:nvSpPr>
          <p:spPr>
            <a:xfrm>
              <a:off x="57913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44"/>
            <p:cNvSpPr/>
            <p:nvPr/>
          </p:nvSpPr>
          <p:spPr>
            <a:xfrm>
              <a:off x="64771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45"/>
            <p:cNvSpPr/>
            <p:nvPr/>
          </p:nvSpPr>
          <p:spPr>
            <a:xfrm>
              <a:off x="71629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46"/>
            <p:cNvSpPr/>
            <p:nvPr/>
          </p:nvSpPr>
          <p:spPr>
            <a:xfrm>
              <a:off x="78487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48"/>
            <p:cNvSpPr/>
            <p:nvPr/>
          </p:nvSpPr>
          <p:spPr>
            <a:xfrm>
              <a:off x="30481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66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use questioning and listening strategies that evoke and expose thin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xplore the concept of fraction as a quotient (partitive and quotativ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01D6-5B95-4354-B3DD-D9149A5740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2936-236F-447F-B620-C5197E1095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ew with a Purpos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operativelearning.nuvvo.com/lesson/9592-seinfeld-teaches-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8 math class in the OC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BA6-3CC3-4D33-B93D-7BB181569F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iew &amp; Discus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52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key differences between these two cl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E49E-7F5D-49BA-A132-C461E75FA1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dividual </a:t>
            </a:r>
            <a:r>
              <a:rPr b="0" lang="en-US" sz="4400" spc="-1" strike="noStrike">
                <a:solidFill>
                  <a:srgbClr val="2b5ca9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867280" cy="3124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se a resource of you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they can be used     to help kids and ourselves      develop questioning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975280" y="2762280"/>
            <a:ext cx="3168720" cy="4095720"/>
          </a:xfrm>
          <a:prstGeom prst="rect">
            <a:avLst/>
          </a:prstGeom>
          <a:ln w="12600">
            <a:solidFill>
              <a:srgbClr val="00009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ownie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F80C-3290-438F-ABAA-99136812CF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brownies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28600" y="1066680"/>
            <a:ext cx="44956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e baked  brow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er son got in and ate some. There were only 7 left. Sue’s daughter and her friends walked in. They decided to  to split them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much will each of the girls, Tori, Anna, Rachel, and Emily, ge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ow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9" name="Content Placeholder 4" descr="Screen shot 2012-08-21 at 6.18.10 PM.png"/>
          <p:cNvPicPr/>
          <p:nvPr/>
        </p:nvPicPr>
        <p:blipFill>
          <a:blip r:embed="rId1"/>
          <a:srcRect l="-8463" t="0" r="-8463" b="0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9B65-D2FA-4A52-AD5F-14D100C08F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ing Simulat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ticipate student thin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otenti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the learning goals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are some of the challenges in questioning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another’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anging question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21:07:43Z</dcterms:created>
  <dc:creator>CSC</dc:creator>
  <dc:description/>
  <dc:language>en-US</dc:language>
  <cp:lastModifiedBy>Kathy Kubota-Zarivnij</cp:lastModifiedBy>
  <dcterms:modified xsi:type="dcterms:W3CDTF">2012-08-21T22:19:00Z</dcterms:modified>
  <cp:revision>35</cp:revision>
  <dc:subject/>
  <dc:title>&lt;Title&gt;</dc:title>
</cp:coreProperties>
</file>